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584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584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ntikvar"/>
                <a:ea typeface="Arial Unicode MS"/>
              </a:rPr>
              <a:t>Родной край – часть большой страны</a:t>
            </a:r>
            <a:endParaRPr b="0" lang="en-US" sz="32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06520" y="353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Урок окружающего мира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4 класс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78" name="Большой детский хор -Наш край.mp3" descr=""/>
          <p:cNvPicPr/>
          <p:nvPr/>
        </p:nvPicPr>
        <p:blipFill>
          <a:blip r:embed="rId1"/>
          <a:stretch/>
        </p:blipFill>
        <p:spPr>
          <a:xfrm>
            <a:off x="7237440" y="5108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31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8" name="Дата 4"/>
          <p:cNvSpPr/>
          <p:nvPr/>
        </p:nvSpPr>
        <p:spPr>
          <a:xfrm>
            <a:off x="457200" y="6532560"/>
            <a:ext cx="21337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EA88-D8E6-44DB-9A2E-A8C4823AF434}" type="datetime">
              <a:rPr b="0" lang="ru-RU" sz="1400" spc="-1" strike="noStrike">
                <a:solidFill>
                  <a:srgbClr val="77933c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5"/>
          <p:cNvSpPr/>
          <p:nvPr/>
        </p:nvSpPr>
        <p:spPr>
          <a:xfrm>
            <a:off x="8478720" y="635652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F1F3-6D7C-4ADB-BFBA-441121DBE264}" type="slidenum">
              <a:rPr b="0" lang="ru-RU" sz="1400" spc="-1" strike="noStrike">
                <a:solidFill>
                  <a:srgbClr val="77933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1103400" y="800280"/>
            <a:ext cx="768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Arial"/>
              </a:rPr>
              <a:t>Леса занимают свыше 40 % территории рег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Arial"/>
              </a:rPr>
              <a:t>10%  -луга , 30% - паш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2417760" y="216000"/>
            <a:ext cx="34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Arial"/>
              </a:rPr>
              <a:t>Раст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428840" y="1676520"/>
            <a:ext cx="6940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Животный мир</a:t>
            </a:r>
            <a:br>
              <a:rPr sz="3600"/>
            </a:br>
            <a:endParaRPr b="0" lang="en-US" sz="36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60 видов млекопитающих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18 видов пресмыкающихся и земноводных 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40 видов рыб 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Около 300 видов птиц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3E64-4BD8-43E4-8523-50000A6AE6D2}" type="datetime">
              <a:rPr b="0" lang="ru-RU" sz="1200" spc="-1" strike="noStrike">
                <a:solidFill>
                  <a:srgbClr val="77933c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4"/>
          <p:cNvSpPr/>
          <p:nvPr/>
        </p:nvSpPr>
        <p:spPr>
          <a:xfrm>
            <a:off x="8515440" y="635652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F618-C728-457A-8180-71BD83E137EF}" type="slidenum">
              <a:rPr b="0" lang="ru-RU" sz="1200" spc="-1" strike="noStrike">
                <a:solidFill>
                  <a:srgbClr val="7793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500040" y="1928880"/>
            <a:ext cx="3686040" cy="3962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1285920" y="2214720"/>
            <a:ext cx="4786200" cy="3765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2214720" y="2786040"/>
            <a:ext cx="4809960" cy="3289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4"/>
          <a:stretch/>
        </p:blipFill>
        <p:spPr>
          <a:xfrm>
            <a:off x="3071880" y="2714760"/>
            <a:ext cx="55036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риокско-Террасный биосферный заповедник</a:t>
            </a:r>
            <a:endParaRPr b="0" lang="en-US" sz="36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94920" y="1593360"/>
            <a:ext cx="755964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53" name="Дата 3"/>
          <p:cNvSpPr/>
          <p:nvPr/>
        </p:nvSpPr>
        <p:spPr>
          <a:xfrm>
            <a:off x="154080" y="6532560"/>
            <a:ext cx="1314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4ABC-E434-4080-A4E3-57B57269C10D}" type="datetime">
              <a:rPr b="0" lang="ru-RU" sz="1200" spc="-1" strike="noStrike">
                <a:solidFill>
                  <a:srgbClr val="77933c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897D-046E-4F2C-A531-4582846FA5A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285920" y="1603440"/>
            <a:ext cx="75945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300" spc="-1" strike="noStrike">
                <a:solidFill>
                  <a:srgbClr val="006600"/>
                </a:solidFill>
                <a:latin typeface="Book Antiqua"/>
              </a:rPr>
              <a:t>Национальный парк</a:t>
            </a:r>
            <a:br>
              <a:rPr sz="4300"/>
            </a:br>
            <a:r>
              <a:rPr b="1" lang="ru-RU" sz="4300" spc="-1" strike="noStrike">
                <a:solidFill>
                  <a:srgbClr val="006600"/>
                </a:solidFill>
                <a:latin typeface="Book Antiqua"/>
              </a:rPr>
              <a:t> «Лосиный остров» </a:t>
            </a:r>
            <a:endParaRPr b="0" lang="en-US" sz="43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667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58" name="Дата 3"/>
          <p:cNvSpPr/>
          <p:nvPr/>
        </p:nvSpPr>
        <p:spPr>
          <a:xfrm>
            <a:off x="190440" y="6532560"/>
            <a:ext cx="13510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345C-8B3A-4D26-87A1-3B68A8C9BEA4}" type="datetime">
              <a:rPr b="0" lang="ru-RU" sz="1200" spc="-1" strike="noStrike">
                <a:solidFill>
                  <a:srgbClr val="77933c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1967-61F0-4742-A728-F411FEA9443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285920" y="1603440"/>
            <a:ext cx="7156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Экология</a:t>
            </a:r>
            <a:br>
              <a:rPr sz="3600"/>
            </a:br>
            <a:endParaRPr b="0" lang="en-US" sz="36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94920" y="1593360"/>
            <a:ext cx="755964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3" name="Дата 3"/>
          <p:cNvSpPr/>
          <p:nvPr/>
        </p:nvSpPr>
        <p:spPr>
          <a:xfrm>
            <a:off x="457200" y="6532560"/>
            <a:ext cx="21337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D5BF-AEF1-4A2D-B208-E824D7AB695C}" type="datetime">
              <a:rPr b="0" lang="ru-RU" sz="1200" spc="-1" strike="noStrike">
                <a:solidFill>
                  <a:srgbClr val="77933c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4"/>
          <p:cNvSpPr/>
          <p:nvPr/>
        </p:nvSpPr>
        <p:spPr>
          <a:xfrm>
            <a:off x="8259840" y="6459480"/>
            <a:ext cx="426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CED9-33D7-46D3-9604-5B25F2E85091}" type="slidenum">
              <a:rPr b="0" lang="ru-RU" sz="1200" spc="-1" strike="noStrike">
                <a:solidFill>
                  <a:srgbClr val="7793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3814560" cy="4635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1214280" y="1714680"/>
            <a:ext cx="4762800" cy="4485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2214720" y="2000160"/>
            <a:ext cx="5429160" cy="4071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4"/>
          <a:stretch/>
        </p:blipFill>
        <p:spPr>
          <a:xfrm>
            <a:off x="3143160" y="2643120"/>
            <a:ext cx="53578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001\Мои документы\К 1 сентября урок\egor_1_resize.jpg"/>
          <p:cNvPicPr/>
          <p:nvPr/>
        </p:nvPicPr>
        <p:blipFill>
          <a:blip r:embed="rId1"/>
          <a:stretch/>
        </p:blipFill>
        <p:spPr>
          <a:xfrm>
            <a:off x="1322280" y="2260440"/>
            <a:ext cx="3140280" cy="43815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1724040" y="361800"/>
            <a:ext cx="59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Arial"/>
              </a:rPr>
              <a:t>Край Егорье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432080" y="951120"/>
            <a:ext cx="741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933c"/>
                </a:solidFill>
                <a:latin typeface="Arial"/>
              </a:rPr>
              <a:t>Его́рьевский райо́н — административно-территориальная единица и муниципальное образование на юго-востоке Московской области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933c"/>
                </a:solidFill>
                <a:latin typeface="Arial"/>
              </a:rPr>
              <a:t>Административный центр — город Егорьев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645080" y="2496240"/>
            <a:ext cx="4308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933c"/>
                </a:solidFill>
                <a:latin typeface="Arial"/>
              </a:rPr>
              <a:t>Егорьевск — это ворота в знаменитую Мещёру, где господствуют медленно текущие реки с заболоченными долинами, многочисленные озера, вязкие болота и чистые родники. Мещеру воспел Константин Паустовский, называя ее «краем бревенчатых погостов из крестьянских сказок, загадочных болотных мшар, таинственных лесных озёр и заколдованной тиши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Documents and Settings\001\Мои документы\наш край1\Карта-Егорьевского-района.jpg"/>
          <p:cNvPicPr/>
          <p:nvPr/>
        </p:nvPicPr>
        <p:blipFill>
          <a:blip r:embed="rId1"/>
          <a:stretch/>
        </p:blipFill>
        <p:spPr>
          <a:xfrm>
            <a:off x="1619280" y="257040"/>
            <a:ext cx="590544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03400" y="873000"/>
            <a:ext cx="5102280" cy="52578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6288120" y="816840"/>
            <a:ext cx="25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933c"/>
                </a:solidFill>
                <a:latin typeface="Arial"/>
                <a:ea typeface="Calibri"/>
              </a:rPr>
              <a:t>Площадь района составляет 1729 км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933c"/>
                </a:solidFill>
                <a:latin typeface="Arial"/>
                <a:ea typeface="Calibri"/>
              </a:rPr>
              <a:t>Район граничит с Воскресенским, Коломенским, Луховицким, Орехово-Зуевским и Шатурским районами области и с Рязанской обл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928960" y="216000"/>
            <a:ext cx="27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933c"/>
                </a:solidFill>
                <a:latin typeface="Arial"/>
              </a:rPr>
              <a:t>Егорьев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5812-A6F9-4245-9D9D-1C2E960B1251}" type="datetime">
              <a:rPr b="0" lang="ru-RU" sz="1400" spc="-1" strike="noStrike">
                <a:solidFill>
                  <a:srgbClr val="77933c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8734320" y="6356520"/>
            <a:ext cx="25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6D97-C421-43EB-8F3B-B25823FC2590}" type="slidenum">
              <a:rPr b="0" lang="ru-RU" sz="1400" spc="-1" strike="noStrike">
                <a:solidFill>
                  <a:srgbClr val="77933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086280" y="714240"/>
            <a:ext cx="6057720" cy="36007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8"/>
          <p:cNvSpPr/>
          <p:nvPr/>
        </p:nvSpPr>
        <p:spPr>
          <a:xfrm>
            <a:off x="701640" y="1328760"/>
            <a:ext cx="23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ЗОНА АРКТИЧЕСКИХ ПУСТЫ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701640" y="2685960"/>
            <a:ext cx="233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ЗОНА ТУНД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701640" y="3843360"/>
            <a:ext cx="23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ЗОНА ТАЙ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1"/>
          <p:cNvSpPr/>
          <p:nvPr/>
        </p:nvSpPr>
        <p:spPr>
          <a:xfrm>
            <a:off x="665280" y="5072040"/>
            <a:ext cx="262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Book Antiqua"/>
              </a:rPr>
              <a:t>ЗОНА Л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3"/>
          <p:cNvSpPr/>
          <p:nvPr/>
        </p:nvSpPr>
        <p:spPr>
          <a:xfrm>
            <a:off x="3214800" y="5572080"/>
            <a:ext cx="259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ЗОНА ПУСТЫ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4"/>
          <p:cNvSpPr/>
          <p:nvPr/>
        </p:nvSpPr>
        <p:spPr>
          <a:xfrm>
            <a:off x="6286680" y="5429160"/>
            <a:ext cx="259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ЗОНА СУБТРОП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ш край</a:t>
            </a:r>
            <a:br>
              <a:rPr sz="3600"/>
            </a:br>
            <a:r>
              <a:rPr b="1" i="1" lang="ru-RU" sz="3600" spc="-1" strike="noStrike">
                <a:solidFill>
                  <a:srgbClr val="953735"/>
                </a:solidFill>
                <a:latin typeface="Arial"/>
              </a:rPr>
              <a:t>Московская область</a:t>
            </a:r>
            <a:endParaRPr b="0" lang="en-US" sz="36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4929120" y="1571760"/>
            <a:ext cx="404352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Дата 3"/>
          <p:cNvSpPr/>
          <p:nvPr/>
        </p:nvSpPr>
        <p:spPr>
          <a:xfrm>
            <a:off x="457200" y="6459480"/>
            <a:ext cx="213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97C6-8402-43CE-AFC2-F8955D4B506E}" type="datetime">
              <a:rPr b="0" lang="ru-RU" sz="1400" spc="-1" strike="noStrike">
                <a:solidFill>
                  <a:srgbClr val="77933c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4"/>
          <p:cNvSpPr/>
          <p:nvPr/>
        </p:nvSpPr>
        <p:spPr>
          <a:xfrm>
            <a:off x="8734320" y="6356520"/>
            <a:ext cx="29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2E50-9DAB-45F2-B921-0AD483BD9A86}" type="slidenum">
              <a:rPr b="0" lang="ru-RU" sz="1400" spc="-1" strike="noStrike">
                <a:solidFill>
                  <a:srgbClr val="77933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27880" y="135720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Arial"/>
              </a:rPr>
              <a:t>Образована 14 января 192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0" y="19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Arial"/>
              </a:rPr>
              <a:t>Административный центр Московской области — г. Москва</a:t>
            </a:r>
            <a:r>
              <a:rPr b="1" lang="ru-RU" sz="1800" spc="-1" strike="noStrike">
                <a:solidFill>
                  <a:srgbClr val="77933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285840" y="528624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Arial"/>
              </a:rPr>
              <a:t>Равнинный характер рельефа с чередованием холмистых возвышенностей и плоских низ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285840" y="3571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Arial"/>
              </a:rPr>
              <a:t>На Восточно-Европейской равнине</a:t>
            </a:r>
            <a:r>
              <a:rPr b="1" lang="ru-RU" sz="1800" spc="-1" strike="noStrike">
                <a:solidFill>
                  <a:srgbClr val="4f622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500040" y="23572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933c"/>
                </a:solidFill>
                <a:latin typeface="Book Antiqua"/>
              </a:rPr>
              <a:t>Соседи Московской области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322280" y="1500120"/>
            <a:ext cx="3144960" cy="3765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411520" y="1500120"/>
            <a:ext cx="341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6600"/>
                </a:solidFill>
                <a:uFillTx/>
                <a:latin typeface="Book Antiqua"/>
              </a:rPr>
              <a:t>Граничит</a:t>
            </a:r>
            <a:r>
              <a:rPr b="0" i="1" lang="ru-RU" sz="2600" spc="-1" strike="noStrike">
                <a:solidFill>
                  <a:srgbClr val="0066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6600"/>
              </a:solidFill>
              <a:latin typeface="Book Antiqua"/>
            </a:endParaRPr>
          </a:p>
          <a:p>
            <a:pPr indent="348120">
              <a:spcBef>
                <a:spcPts val="64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Book Antiqua"/>
              </a:rPr>
              <a:t>со Смоленской, </a:t>
            </a:r>
            <a:endParaRPr b="0" lang="en-US" sz="2600" spc="-1" strike="noStrike">
              <a:solidFill>
                <a:srgbClr val="006600"/>
              </a:solidFill>
              <a:latin typeface="Book Antiqua"/>
            </a:endParaRPr>
          </a:p>
          <a:p>
            <a:pPr indent="348120">
              <a:spcBef>
                <a:spcPts val="64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Book Antiqua"/>
              </a:rPr>
              <a:t>с Тверской,</a:t>
            </a:r>
            <a:endParaRPr b="0" lang="en-US" sz="2600" spc="-1" strike="noStrike">
              <a:solidFill>
                <a:srgbClr val="006600"/>
              </a:solidFill>
              <a:latin typeface="Book Antiqua"/>
            </a:endParaRPr>
          </a:p>
          <a:p>
            <a:pPr indent="348120">
              <a:spcBef>
                <a:spcPts val="64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Book Antiqua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Book Antiqua"/>
              </a:rPr>
              <a:t>с Ярославской, </a:t>
            </a:r>
            <a:endParaRPr b="0" lang="en-US" sz="2600" spc="-1" strike="noStrike">
              <a:solidFill>
                <a:srgbClr val="006600"/>
              </a:solidFill>
              <a:latin typeface="Book Antiqua"/>
            </a:endParaRPr>
          </a:p>
          <a:p>
            <a:pPr indent="348120">
              <a:spcBef>
                <a:spcPts val="64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Book Antiqua"/>
              </a:rPr>
              <a:t>с Владимирской, </a:t>
            </a:r>
            <a:endParaRPr b="0" lang="en-US" sz="2600" spc="-1" strike="noStrike">
              <a:solidFill>
                <a:srgbClr val="006600"/>
              </a:solidFill>
              <a:latin typeface="Book Antiqua"/>
            </a:endParaRPr>
          </a:p>
          <a:p>
            <a:pPr indent="348120">
              <a:spcBef>
                <a:spcPts val="64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Book Antiqua"/>
              </a:rPr>
              <a:t>с Рязанской, </a:t>
            </a:r>
            <a:endParaRPr b="0" lang="en-US" sz="2600" spc="-1" strike="noStrike">
              <a:solidFill>
                <a:srgbClr val="006600"/>
              </a:solidFill>
              <a:latin typeface="Book Antiqua"/>
            </a:endParaRPr>
          </a:p>
          <a:p>
            <a:pPr indent="348120">
              <a:spcBef>
                <a:spcPts val="64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Book Antiqua"/>
              </a:rPr>
              <a:t>с Тульской, </a:t>
            </a:r>
            <a:endParaRPr b="0" lang="en-US" sz="2600" spc="-1" strike="noStrike">
              <a:solidFill>
                <a:srgbClr val="006600"/>
              </a:solidFill>
              <a:latin typeface="Book Antiqua"/>
            </a:endParaRPr>
          </a:p>
          <a:p>
            <a:pPr indent="348120">
              <a:spcBef>
                <a:spcPts val="649"/>
              </a:spcBef>
              <a:buClr>
                <a:srgbClr val="0066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Book Antiqua"/>
              </a:rPr>
              <a:t>с Калужской областями</a:t>
            </a:r>
            <a:endParaRPr b="0" lang="en-US" sz="26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4B75-4FB1-4699-9450-EBCF7252107C}" type="datetime">
              <a:rPr b="0" lang="ru-RU" sz="1400" spc="-1" strike="noStrike">
                <a:solidFill>
                  <a:srgbClr val="77933c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8405640" y="6356520"/>
            <a:ext cx="28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E021-BF6E-4E45-B3FC-2BE6F3724181}" type="slidenum">
              <a:rPr b="0" lang="ru-RU" sz="1400" spc="-1" strike="noStrike">
                <a:solidFill>
                  <a:srgbClr val="77933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701640" y="1500120"/>
            <a:ext cx="46004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143760" y="2857680"/>
            <a:ext cx="2781000" cy="3809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3714840" y="2714760"/>
            <a:ext cx="5048280" cy="3781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3000240" y="2786040"/>
            <a:ext cx="5000760" cy="3751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Промышленность</a:t>
            </a:r>
            <a:br>
              <a:rPr sz="3600"/>
            </a:br>
            <a:endParaRPr b="0" lang="en-US" sz="36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57240" y="1000080"/>
            <a:ext cx="7996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>
              <a:spcBef>
                <a:spcPts val="601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Book Antiqua"/>
              </a:rPr>
              <a:t>машиностроение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358920">
              <a:spcBef>
                <a:spcPts val="601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Book Antiqua"/>
              </a:rPr>
              <a:t>химическая промышленность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358920">
              <a:spcBef>
                <a:spcPts val="601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Book Antiqua"/>
              </a:rPr>
              <a:t>промышленность строительных материалов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358920">
              <a:spcBef>
                <a:spcPts val="601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Book Antiqua"/>
              </a:rPr>
              <a:t>пищевой промышленности,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Book Antiqua"/>
              </a:rPr>
              <a:t>лёгкая промышленность </a:t>
            </a: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  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DB7F-F462-43CA-9669-A2B8E841A231}" type="datetime">
              <a:rPr b="0" lang="ru-RU" sz="1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62EB-24B3-41A0-A006-81BC206FF05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2071800" y="2662200"/>
            <a:ext cx="3286080" cy="4195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5"/>
          <a:stretch/>
        </p:blipFill>
        <p:spPr>
          <a:xfrm>
            <a:off x="714240" y="3357720"/>
            <a:ext cx="57866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Сельское хозяйство</a:t>
            </a:r>
            <a:br>
              <a:rPr sz="3600"/>
            </a:br>
            <a:endParaRPr b="0" lang="en-US" sz="36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96720" y="1591920"/>
            <a:ext cx="35989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256000" y="1591920"/>
            <a:ext cx="3600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5" name="Дата 3"/>
          <p:cNvSpPr/>
          <p:nvPr/>
        </p:nvSpPr>
        <p:spPr>
          <a:xfrm>
            <a:off x="457200" y="6532560"/>
            <a:ext cx="21337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48AB-6147-4412-BCD0-E3F0D3B8F3B2}" type="datetime">
              <a:rPr b="0" lang="ru-RU" sz="1400" spc="-1" strike="noStrike">
                <a:solidFill>
                  <a:srgbClr val="77933c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8880480" y="6496200"/>
            <a:ext cx="1461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8709-0654-4BAA-81D7-6E08F66BB204}" type="slidenum">
              <a:rPr b="0" lang="ru-RU" sz="1400" spc="-1" strike="noStrike">
                <a:solidFill>
                  <a:srgbClr val="77933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285920" y="1420920"/>
            <a:ext cx="7594560" cy="5105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2214720" y="928800"/>
            <a:ext cx="49687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Транспорт</a:t>
            </a:r>
            <a:br>
              <a:rPr sz="3600"/>
            </a:br>
            <a:endParaRPr b="0" lang="en-US" sz="36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4920" y="1593360"/>
            <a:ext cx="7559640" cy="4859640"/>
          </a:xfrm>
          <a:prstGeom prst="rect">
            <a:avLst/>
          </a:prstGeom>
          <a:ln w="0">
            <a:noFill/>
          </a:ln>
        </p:spPr>
      </p:pic>
      <p:sp>
        <p:nvSpPr>
          <p:cNvPr id="121" name="Дата 3"/>
          <p:cNvSpPr/>
          <p:nvPr/>
        </p:nvSpPr>
        <p:spPr>
          <a:xfrm>
            <a:off x="457200" y="6496200"/>
            <a:ext cx="21337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3FA2-2430-4AB5-AA7C-4871D1827927}" type="datetime">
              <a:rPr b="0" lang="ru-RU" sz="1400" spc="-1" strike="noStrike">
                <a:solidFill>
                  <a:srgbClr val="77933c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8624880" y="6496200"/>
            <a:ext cx="4017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1C80-A2A6-4D60-BC5B-AB013BCFD941}" type="slidenum">
              <a:rPr b="0" lang="ru-RU" sz="1400" spc="-1" strike="noStrike">
                <a:solidFill>
                  <a:srgbClr val="77933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285920" y="928800"/>
            <a:ext cx="3510000" cy="4952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1285920" y="785880"/>
            <a:ext cx="73753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Book Antiqua"/>
              </a:rPr>
              <a:t>КЛИМАТ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6720" y="1591920"/>
            <a:ext cx="35989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 Antiqua"/>
              </a:rPr>
              <a:t>лето тёплое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Самый тёплый месяц — </a:t>
            </a:r>
            <a:r>
              <a:rPr b="0" lang="ru-RU" sz="2800" spc="-1" strike="noStrike" u="sng">
                <a:solidFill>
                  <a:srgbClr val="006600"/>
                </a:solidFill>
                <a:uFillTx/>
                <a:latin typeface="Book Antiqua"/>
              </a:rPr>
              <a:t>июль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Максимальная летняя температура (+39,7 °C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256000" y="1591920"/>
            <a:ext cx="3600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 Antiqua"/>
              </a:rPr>
              <a:t>зима умеренно холодная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Самый холодный месяц — </a:t>
            </a:r>
            <a:r>
              <a:rPr b="0" lang="ru-RU" sz="2800" spc="-1" strike="noStrike" u="sng">
                <a:solidFill>
                  <a:srgbClr val="006600"/>
                </a:solidFill>
                <a:uFillTx/>
                <a:latin typeface="Book Antiqua"/>
              </a:rPr>
              <a:t>январь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средняя температура на западе области −10 °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457200" y="6459480"/>
            <a:ext cx="2133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2CC6-B1E9-466D-A3F2-15EF6DA8E27A}" type="datetime">
              <a:rPr b="0" lang="ru-RU" sz="1400" spc="-1" strike="noStrike">
                <a:solidFill>
                  <a:srgbClr val="77933c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8588520" y="6423120"/>
            <a:ext cx="43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3B5E-5CF8-4E69-9B9D-7D425A74F793}" type="slidenum">
              <a:rPr b="0" lang="ru-RU" sz="1400" spc="-1" strike="noStrike">
                <a:solidFill>
                  <a:srgbClr val="77933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285920" y="1201680"/>
            <a:ext cx="6669000" cy="522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1285920" y="1209600"/>
            <a:ext cx="75945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Book Antiqua"/>
              </a:rPr>
              <a:t>РЕКИ</a:t>
            </a:r>
            <a:endParaRPr b="0" lang="en-US" sz="5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4920" y="1593360"/>
            <a:ext cx="755964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Всего в Московской области свыше 300 рек, 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Book Antiqua"/>
              </a:rPr>
              <a:t>озёр - около 350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CAC7-AA2A-4DFB-A36E-438096B6748C}" type="datetime">
              <a:rPr b="0" lang="ru-RU" sz="1400" spc="-1" strike="noStrike">
                <a:solidFill>
                  <a:srgbClr val="77933c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8515440" y="6423120"/>
            <a:ext cx="474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1A80-6EB4-4F7B-93CE-256152D09AC6}" type="slidenum">
              <a:rPr b="0" lang="ru-RU" sz="1400" spc="-1" strike="noStrike">
                <a:solidFill>
                  <a:srgbClr val="77933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4628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12-01-11T18:20:34Z</dcterms:modified>
  <cp:revision>43</cp:revision>
  <dc:subject/>
  <dc:title>Слайд 1</dc:title>
</cp:coreProperties>
</file>